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79EA-FBF4-4900-9004-62601AC3336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las Roberts, Chairman Northern Lands Council and Galarrwuy Yunapingu, Manager Northern Lands Council with Yirrkala Bark Pet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Hill Station started in 1883, but is most famous for being home of the ’Wave Hill Walk-off’ in 1966,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68, after their petitions to Parliament failed to gain recognition of their rights to land, Yolngu people from Yirrkala in eastern Arnhem Land took their case to the Northern Territory Supreme Court. The leaders in this action, known as the Gove Land Rights Case, are pictured in Canberra in September 1970, outside the ACT Supreme Court building. The High Court met there in Canberra for a ruling on the case, decided by the Northen Territory Supreme Court in 1971.</a:t>
            </a: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ugh Whitlam and Vincent Lingiari 196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ie Dexter with a copy of the </a:t>
            </a:r>
            <a:r>
              <a:rPr b="0" i="1" lang="en-US" sz="1200" spc="-1" strike="noStrike">
                <a:solidFill>
                  <a:srgbClr val="000000"/>
                </a:solidFill>
                <a:latin typeface="Arial"/>
              </a:rPr>
              <a:t>Aboriginal Land Rights (Northern Territory) Act</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1" lang="en-US" sz="1200" spc="-1" strike="noStrike">
                <a:solidFill>
                  <a:srgbClr val="000000"/>
                </a:solidFill>
                <a:latin typeface="Arial"/>
              </a:rPr>
              <a:t>Date:</a:t>
            </a:r>
            <a:r>
              <a:rPr b="0" lang="en-US" sz="1200" spc="-1" strike="noStrike">
                <a:solidFill>
                  <a:srgbClr val="000000"/>
                </a:solidFill>
                <a:latin typeface="Arial"/>
              </a:rPr>
              <a:t>197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eddie mab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picture shows Native Title Representative Bod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21F43-57D6-4B4B-9FA6-1AC2A4F4C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E542C-ADD2-4364-9812-F0890F9A3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4182E-01EA-467D-8B0F-7C6191ACA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83900-6FFB-4464-8222-D7FF34018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F193F-AC57-4C68-8368-486EDD9BD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AAA07-1399-4B08-A73F-3821A2510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424CA-5899-4C9A-B46B-B9EDCE5CD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7CAC9-14DB-4BD0-8DC3-9978FA3C0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81E2C-62CC-4A32-9239-FD9EE3C9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92F23-B9E7-4D19-A62B-B4BF992B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525F-8EF1-4F7A-A9D5-5A3893030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8FD7-71C6-458F-8C88-2E0A08FB5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1785-3EF1-4DC5-97E4-FB2D47625A7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boriginal Land Rights Clai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Alex And Dyla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 - The Bark Petition</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etition written on bark </a:t>
            </a:r>
            <a:endParaRPr b="0" lang="en-US" sz="2000" spc="-1" strike="noStrike">
              <a:solidFill>
                <a:srgbClr val="000000"/>
              </a:solidFill>
              <a:latin typeface="Arial"/>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rotesting against the commonwealth’s granting of mining rights to Nabalcl over 390 square kilometres of land excise from arnhem land reserv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6 – Wave Hill Strik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boriginal pastoral workers walked off the job.</a:t>
            </a:r>
            <a:endParaRPr b="0" lang="en-US" sz="2000" spc="-1" strike="noStrike">
              <a:solidFill>
                <a:srgbClr val="000000"/>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xpressed their unhappiness with the poor working conditions and disrespectful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2 – Grove Land Righ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Yongu people fight for their land righ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Justice says Australia was legally Terra Null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ouldn’t prevent mining on their land</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5 – Gurindji Hand Back</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Whitlam government came to power. </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y promised to legislate for land right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original Wave Hill lease was surrendered.</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76 – Aboriginal Land Rights Ac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boriginal make a effort to inherent right to land recognised</a:t>
            </a:r>
            <a:endParaRPr b="0" lang="en-US" sz="2400" spc="-1" strike="noStrike">
              <a:solidFill>
                <a:srgbClr val="000000"/>
              </a:solidFill>
              <a:latin typeface="Arial"/>
            </a:endParaRPr>
          </a:p>
          <a:p>
            <a:pPr marL="339480" indent="-33948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Justice Wood Ward, appointed to hold inquiry into appropriate ways to recognise Aboriginal land rights in N.T.</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992 – The Mabo Cas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alian High Court recognise Australia was not an empty piece of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alian High Court recognised the rights of Aborigines and Torres Strait Islanders were similar to indigenous groups the rest of th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1993 – The Native Title Act</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native title act recognises and protects native tit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alidated any past grants of freehold or leasehold interes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1:31:49Z</dcterms:created>
  <dc:creator>Reservoir District Secondary College</dc:creator>
  <dc:description/>
  <dc:language>en-US</dc:language>
  <cp:lastModifiedBy>Ern Reichelt</cp:lastModifiedBy>
  <dcterms:modified xsi:type="dcterms:W3CDTF">2010-06-02T00:44:03Z</dcterms:modified>
  <cp:revision>11</cp:revision>
  <dc:subject/>
  <dc:title>Aboriginal Land Rights Claim</dc:title>
</cp:coreProperties>
</file>